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8826-7E41-4EDB-97B3-A27A97FD7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8794-E567-4BC0-B685-C65668D2B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936F-1B1B-4277-B5D4-9863C2EC7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D573-04B8-451F-BB5D-AA368CD3A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4836-14F5-4CAB-BEC6-06F96CA94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6B77-AE7C-4AA0-B565-024139DF7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AB21-049B-4BFB-8A98-9285E44A9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81FD-0EFC-4B96-8E38-87A2DA1FD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176E-19E6-444F-BFDC-588A28EBE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A2D9-71A8-40D3-AE49-72D504C31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5413-5760-4894-993C-015F3C475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1156-D7B7-494B-ABBA-0D627972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21C1C-779B-4175-B2F2-1BB82C33B63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838080"/>
            <a:ext cx="763272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第十四章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棘头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Acanthocepha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猪巨吻棘头虫 </a:t>
            </a:r>
            <a:r>
              <a:rPr b="1" i="1" lang="en-US" sz="3600" spc="-1" strike="noStrike">
                <a:solidFill>
                  <a:srgbClr val="0000cc"/>
                </a:solidFill>
                <a:latin typeface="Times New Roman"/>
                <a:ea typeface="楷体"/>
              </a:rPr>
              <a:t>Macracanthorhynch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Times New Roman"/>
                <a:ea typeface="楷体"/>
              </a:rPr>
              <a:t> </a:t>
            </a:r>
            <a:r>
              <a:rPr b="1" i="1" lang="en-US" sz="3600" spc="-1" strike="noStrike">
                <a:solidFill>
                  <a:srgbClr val="0000cc"/>
                </a:solidFill>
                <a:latin typeface="Times New Roman"/>
                <a:ea typeface="楷体"/>
              </a:rPr>
              <a:t>hirudinace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5410080"/>
            <a:ext cx="325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"/>
              </a:rPr>
              <a:t>刘俊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82680" y="384120"/>
            <a:ext cx="8456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14ac"/>
                </a:solidFill>
                <a:latin typeface="宋体"/>
              </a:rPr>
              <a:t>              </a:t>
            </a:r>
            <a:r>
              <a:rPr b="1" lang="zh-CN" sz="2000" spc="-1" strike="noStrike">
                <a:solidFill>
                  <a:srgbClr val="0014ac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14ac"/>
                </a:solidFill>
                <a:latin typeface="宋体"/>
              </a:rPr>
              <a:t>六、防 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强卫生知识的宣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教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，不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捕食甲虫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强猪的饲养管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查治感染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尚无理想的驱虫药物，早期患者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阿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苯达唑和甲苯咪唑有一定疗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并发症的处理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手术治疗为主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99072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猪巨吻棘头虫是一种大型蠕虫，成虫寄生于猪的小肠内，偶尔也可寄生人体小肠，引起猪巨吻棘头虫病。是一种人兽共患寄生虫病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80880" y="1219320"/>
            <a:ext cx="609912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4ac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.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成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外形  活体时背腹略扁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固定后为圆柱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体色  乳白色或淡红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大小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雌虫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c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雄虫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c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71800" y="533520"/>
            <a:ext cx="26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172200" y="1143000"/>
            <a:ext cx="2338560" cy="51116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225440" y="179244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6360" y="1295280"/>
            <a:ext cx="8685360" cy="33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结构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吻突：类球形，可伸缩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尖锐透明吻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颈部：短，圆柱形，与吻鞘相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躯干：雌虫尾部钝圆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雄虫尾端有钟形交合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2209680"/>
            <a:ext cx="153720" cy="2287800"/>
          </a:xfrm>
          <a:custGeom>
            <a:avLst/>
            <a:gdLst>
              <a:gd name="textAreaLeft" fmla="*/ 98280 w 153720"/>
              <a:gd name="textAreaRight" fmla="*/ 154080 w 153720"/>
              <a:gd name="textAreaTop" fmla="*/ 59400 h 2287800"/>
              <a:gd name="textAreaBottom" fmla="*/ 2228400 h 2287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14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90360" y="380880"/>
            <a:ext cx="388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宋体"/>
              </a:rPr>
              <a:t>2.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虫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14ac"/>
                </a:solidFill>
                <a:latin typeface="Arial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1066680"/>
            <a:ext cx="7721640" cy="41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外形 </a:t>
            </a:r>
            <a:r>
              <a:rPr b="1" lang="zh-CN" sz="3200" spc="-1" strike="noStrike">
                <a:solidFill>
                  <a:srgbClr val="0014ac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椭圆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大小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m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m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颜色  棕褐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卵壳  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闭合不全，透明状，易破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内含物  有小钩的棘头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81280" y="4648320"/>
            <a:ext cx="2664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感染性棘头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23880" y="1676520"/>
            <a:ext cx="108108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1676520"/>
            <a:ext cx="100836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虫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2418000">
            <a:off x="1890000" y="363168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终宿主等经口感染小肠内发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1523880"/>
            <a:ext cx="251964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雌虫产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虫卵随粪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便排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2693400">
            <a:off x="5858640" y="2891520"/>
            <a:ext cx="151128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中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宿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鞘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目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90920" y="2057400"/>
            <a:ext cx="3887640" cy="144360"/>
          </a:xfrm>
          <a:prstGeom prst="rightArrow">
            <a:avLst>
              <a:gd name="adj1" fmla="val 50000"/>
              <a:gd name="adj2" fmla="val 673254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2899800">
            <a:off x="5813640" y="1805760"/>
            <a:ext cx="146160" cy="3240360"/>
          </a:xfrm>
          <a:prstGeom prst="downArrow">
            <a:avLst>
              <a:gd name="adj1" fmla="val 50000"/>
              <a:gd name="adj2" fmla="val 554249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2485800">
            <a:off x="1447560" y="3352680"/>
            <a:ext cx="3311280" cy="146160"/>
          </a:xfrm>
          <a:prstGeom prst="leftArrow">
            <a:avLst>
              <a:gd name="adj1" fmla="val 50000"/>
              <a:gd name="adj2" fmla="val 566379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95480" y="533520"/>
            <a:ext cx="39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二、生活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9063800">
            <a:off x="5241240" y="3047760"/>
            <a:ext cx="106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～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个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476800">
            <a:off x="2818800" y="3276360"/>
            <a:ext cx="156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～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个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04560" y="228240"/>
            <a:ext cx="8461080" cy="63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14ac"/>
                </a:solidFill>
                <a:latin typeface="宋体"/>
              </a:rPr>
              <a:t>           </a:t>
            </a:r>
            <a:r>
              <a:rPr b="1" lang="zh-CN" sz="2800" spc="-1" strike="noStrike">
                <a:solidFill>
                  <a:srgbClr val="0014ac"/>
                </a:solidFill>
                <a:latin typeface="宋体"/>
              </a:rPr>
              <a:t>        </a:t>
            </a:r>
            <a:r>
              <a:rPr b="1" lang="zh-CN" sz="3600" spc="-1" strike="noStrike">
                <a:solidFill>
                  <a:srgbClr val="0014ac"/>
                </a:solidFill>
                <a:latin typeface="宋体"/>
              </a:rPr>
              <a:t>三、致 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致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病</a:t>
            </a: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黏膜组织充血、出血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疡、坏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缔组织增生形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棘头虫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虫体结节与大网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系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或邻近肠管粘连形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包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穿破肠壁造成肠穿孔，导致局限性腹膜炎或腹腔脓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临床表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早期无明显症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消化道症状  消化不良、腹痛、腹泻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并发症  肠梗阻、肠穿孔和腹膜炎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763200" y="382680"/>
            <a:ext cx="78469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4ac"/>
                </a:solidFill>
                <a:latin typeface="Arial"/>
              </a:rPr>
              <a:t>                  </a:t>
            </a:r>
            <a:r>
              <a:rPr b="1" lang="zh-CN" sz="3600" spc="-1" strike="noStrike">
                <a:solidFill>
                  <a:srgbClr val="0014ac"/>
                </a:solidFill>
                <a:latin typeface="Arial"/>
              </a:rPr>
              <a:t>四、 诊 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流行病学史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食或半生食甲虫史及临床表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虫体检查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自然或服驱虫药后排出的虫体或手术时发现虫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免疫学检查   虫卵抗原皮试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013360"/>
            <a:ext cx="8064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52280" y="685440"/>
            <a:ext cx="8686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流行分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国外仅有数例报道，国内已报道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余例，分布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省、自治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直辖市。辽宁和山东的部分地区呈地方性流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主要流行因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染源  猪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饮食习惯  生食或半生食中间宿主鞘翅目昆虫 （天牛、金龟子感染率最高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028760" y="152280"/>
            <a:ext cx="85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五、流 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7T12:08:00Z</dcterms:created>
  <dc:creator/>
  <dc:description/>
  <cp:keywords/>
  <dc:language>en-US</dc:language>
  <cp:lastModifiedBy>hzg</cp:lastModifiedBy>
  <dcterms:modified xsi:type="dcterms:W3CDTF">2015-10-06T07:43:49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29</vt:lpwstr>
  </property>
  <property fmtid="{D5CDD505-2E9C-101B-9397-08002B2CF9AE}" pid="3" name="Version">
    <vt:r8>1</vt:r8>
  </property>
</Properties>
</file>